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19.jpeg" ContentType="image/jpeg"/>
  <Override PartName="/ppt/media/image2.gif" ContentType="image/gif"/>
  <Override PartName="/ppt/media/image22.gif" ContentType="image/gif"/>
  <Override PartName="/ppt/media/image21.gif" ContentType="image/gif"/>
  <Override PartName="/ppt/media/image20.jpeg" ContentType="image/jpeg"/>
  <Override PartName="/ppt/media/image28.jpeg" ContentType="image/jpeg"/>
  <Override PartName="/ppt/media/image10.gif" ContentType="image/gif"/>
  <Override PartName="/ppt/media/image6.gif" ContentType="image/gif"/>
  <Override PartName="/ppt/media/image34.png" ContentType="image/png"/>
  <Override PartName="/ppt/media/image11.gif" ContentType="image/gif"/>
  <Override PartName="/ppt/media/image8.gif" ContentType="image/gif"/>
  <Override PartName="/ppt/media/image13.gif" ContentType="image/gif"/>
  <Override PartName="/ppt/media/image16.jpeg" ContentType="image/jpeg"/>
  <Override PartName="/ppt/media/image9.jpeg" ContentType="image/jpeg"/>
  <Override PartName="/ppt/media/image36.jpeg" ContentType="image/jpeg"/>
  <Override PartName="/ppt/media/image26.jpeg" ContentType="image/jpeg"/>
  <Override PartName="/ppt/media/image32.jpeg" ContentType="image/jpeg"/>
  <Override PartName="/ppt/media/image30.png" ContentType="image/png"/>
  <Override PartName="/ppt/media/image24.jpeg" ContentType="image/jpeg"/>
  <Override PartName="/ppt/media/image5.gif" ContentType="image/gif"/>
  <Override PartName="/ppt/media/image4.gif" ContentType="image/gif"/>
  <Override PartName="/ppt/media/image35.jpeg" ContentType="image/jpeg"/>
  <Override PartName="/ppt/media/image1.jpeg" ContentType="image/jpeg"/>
  <Override PartName="/ppt/media/image33.gif" ContentType="image/gif"/>
  <Override PartName="/ppt/media/image3.gif" ContentType="image/gif"/>
  <Override PartName="/ppt/media/image7.gif" ContentType="image/gif"/>
  <Override PartName="/ppt/media/image29.jpeg" ContentType="image/jpeg"/>
  <Override PartName="/ppt/media/image37.gif" ContentType="image/gif"/>
  <Override PartName="/ppt/media/image31.jpeg" ContentType="image/jpeg"/>
  <Override PartName="/ppt/media/image14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23.gif" ContentType="image/gi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721C-CCEB-44F7-80E5-E3347205F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838-E97C-4551-A610-2462F9F5E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36A-8984-4D75-8075-316EF2634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C81-54B6-45D9-90E1-B8165A83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149-0787-4519-843A-7EFCD31E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CF5-6CFF-4BD3-9C55-150FCD61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60D-9D54-4F2E-A72E-762F171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891-A0AF-484B-9F5D-A070683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A83-E698-4521-B0E1-F7672235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3A-2B26-41A0-A52E-78E7D527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086-5321-4928-B06F-B5AAFB2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681-27CB-45E9-A7F8-4B8B610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F90-EA48-4E5D-90F2-D2A076B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A00-D0E3-4BDA-A124-F1BBCF6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F8-54DD-4C10-9A44-523E6BD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15AB-BC91-4049-87B3-C999905B6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ru.wikipedia.org/wiki/&#1060;&#1072;&#1081;&#1083;:La_Fontaine_par_Rigaud.jpg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3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bdee13c60c9204fee7ec8d256b5f9fa"/>
          <p:cNvPicPr/>
          <p:nvPr/>
        </p:nvPicPr>
        <p:blipFill>
          <a:blip r:embed="rId1"/>
          <a:stretch/>
        </p:blipFill>
        <p:spPr>
          <a:xfrm>
            <a:off x="3492360" y="3573360"/>
            <a:ext cx="2210040" cy="2665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jiv2316"/>
          <p:cNvPicPr/>
          <p:nvPr/>
        </p:nvPicPr>
        <p:blipFill>
          <a:blip r:embed="rId2"/>
          <a:stretch/>
        </p:blipFill>
        <p:spPr>
          <a:xfrm>
            <a:off x="250920" y="6237360"/>
            <a:ext cx="4572000" cy="48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iv2316"/>
          <p:cNvPicPr/>
          <p:nvPr/>
        </p:nvPicPr>
        <p:blipFill>
          <a:blip r:embed="rId3"/>
          <a:stretch/>
        </p:blipFill>
        <p:spPr>
          <a:xfrm>
            <a:off x="4572000" y="6237360"/>
            <a:ext cx="4572000" cy="48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iv1811"/>
          <p:cNvPicPr/>
          <p:nvPr/>
        </p:nvPicPr>
        <p:blipFill>
          <a:blip r:embed="rId4"/>
          <a:stretch/>
        </p:blipFill>
        <p:spPr>
          <a:xfrm>
            <a:off x="6732720" y="2565360"/>
            <a:ext cx="2190600" cy="371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jiv2355"/>
          <p:cNvPicPr/>
          <p:nvPr/>
        </p:nvPicPr>
        <p:blipFill>
          <a:blip r:embed="rId5"/>
          <a:stretch/>
        </p:blipFill>
        <p:spPr>
          <a:xfrm>
            <a:off x="395280" y="260280"/>
            <a:ext cx="2244600" cy="145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jiv3016"/>
          <p:cNvPicPr/>
          <p:nvPr/>
        </p:nvPicPr>
        <p:blipFill>
          <a:blip r:embed="rId6"/>
          <a:stretch/>
        </p:blipFill>
        <p:spPr>
          <a:xfrm>
            <a:off x="468360" y="4221000"/>
            <a:ext cx="1722240" cy="20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bird19"/>
          <p:cNvPicPr/>
          <p:nvPr/>
        </p:nvPicPr>
        <p:blipFill>
          <a:blip r:embed="rId7"/>
          <a:stretch/>
        </p:blipFill>
        <p:spPr>
          <a:xfrm>
            <a:off x="586728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flowers19"/>
          <p:cNvPicPr/>
          <p:nvPr/>
        </p:nvPicPr>
        <p:blipFill>
          <a:blip r:embed="rId8"/>
          <a:stretch/>
        </p:blipFill>
        <p:spPr>
          <a:xfrm rot="20146800">
            <a:off x="5651280" y="2421000"/>
            <a:ext cx="169524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flowers19"/>
          <p:cNvPicPr/>
          <p:nvPr/>
        </p:nvPicPr>
        <p:blipFill>
          <a:blip r:embed="rId9"/>
          <a:stretch/>
        </p:blipFill>
        <p:spPr>
          <a:xfrm rot="2133000">
            <a:off x="1547280" y="2276640"/>
            <a:ext cx="16956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857480" y="1999800"/>
            <a:ext cx="37148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ван Андреевич  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4000680" cy="4786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1" name="Rectangle 5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.A.Krilov.Kvartet.wmv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32960" cy="66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3100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"/>
          <p:cNvPicPr/>
          <p:nvPr/>
        </p:nvPicPr>
        <p:blipFill>
          <a:blip r:embed="rId1"/>
          <a:stretch/>
        </p:blipFill>
        <p:spPr>
          <a:xfrm>
            <a:off x="4572000" y="3357720"/>
            <a:ext cx="3308400" cy="31669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15" name="Picture 3" descr="5"/>
          <p:cNvPicPr/>
          <p:nvPr/>
        </p:nvPicPr>
        <p:blipFill>
          <a:blip r:embed="rId2"/>
          <a:stretch/>
        </p:blipFill>
        <p:spPr>
          <a:xfrm>
            <a:off x="714240" y="142920"/>
            <a:ext cx="3024360" cy="2962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16" name="Picture 4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68360" y="3357720"/>
            <a:ext cx="2735280" cy="32130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17" name="Picture 2" descr="C:\Documents and Settings\Ольга\Рабочий стол\картинки\Крылов\3128015.jpg"/>
          <p:cNvPicPr/>
          <p:nvPr/>
        </p:nvPicPr>
        <p:blipFill>
          <a:blip r:embed="rId4"/>
          <a:stretch/>
        </p:blipFill>
        <p:spPr>
          <a:xfrm>
            <a:off x="4429080" y="214200"/>
            <a:ext cx="3429000" cy="2880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90240"/>
            <a:ext cx="82310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итай ежедневно вслух и про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Читай внимательно, не отвлекайся на посторонние зв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Будь внимателен к каждому слову. Старайся не возвращаться к чтению прочитанного слова, если понял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Значение непонятных слов найди в слова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Старайся понять о чем чи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ртет- музыкальный ансамбль из 4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ас – самый низкий гол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ьт – музыкальный смычковый инструмент немного больше скри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ма – инструмент, играющий ведущую р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тора – второй по важности инструмент в оркестре во время исполнения какого-нибудь произведения (например скрип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Заголовок 2" descr=""/>
          <p:cNvPicPr/>
          <p:nvPr/>
        </p:nvPicPr>
        <p:blipFill>
          <a:blip r:embed="rId1"/>
          <a:stretch/>
        </p:blipFill>
        <p:spPr>
          <a:xfrm>
            <a:off x="566640" y="33480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Documents and Settings\Администратор\Рабочий стол\Картинки\22237-3888x2592.jpg"/>
          <p:cNvPicPr/>
          <p:nvPr/>
        </p:nvPicPr>
        <p:blipFill>
          <a:blip r:embed="rId1"/>
          <a:stretch/>
        </p:blipFill>
        <p:spPr>
          <a:xfrm>
            <a:off x="571680" y="500040"/>
            <a:ext cx="2965320" cy="25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Documents and Settings\Администратор\Рабочий стол\Картинки\1287483714-1.jpg"/>
          <p:cNvPicPr/>
          <p:nvPr/>
        </p:nvPicPr>
        <p:blipFill>
          <a:blip r:embed="rId2"/>
          <a:stretch/>
        </p:blipFill>
        <p:spPr>
          <a:xfrm>
            <a:off x="4071960" y="1285920"/>
            <a:ext cx="4143240" cy="3714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1500120" y="314316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ь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500280" y="5072040"/>
            <a:ext cx="492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рип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ь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571680" y="357120"/>
            <a:ext cx="8001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йствия, которые совершают геро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тея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решили сыграть, пришла мыс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еня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восхищать, пораж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ари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начали игр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ут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не играют, а извлекают зву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072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 про Фому, другой про Ерём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в лес, кто по др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вирелку играет, а ладу не зн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с быком не биться, а молока от него не доб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5072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280" y="762120"/>
            <a:ext cx="402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357120" y="285840"/>
            <a:ext cx="464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еселые марты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играем громко слиш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 ладошки хлопа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ногами топ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уваем щёч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чем на носоч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уг другу даже язычки покаж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но прыгнем к потолк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 поднесём к виск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топырим 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стик на макуш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е рот откро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масы мы состро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кажу я цифру три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 гримасами зам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mon2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714920" y="21420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on2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071960" y="3714840"/>
            <a:ext cx="3611520" cy="242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on2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858000" y="1714680"/>
            <a:ext cx="1928880" cy="2428560"/>
          </a:xfrm>
          <a:prstGeom prst="rect">
            <a:avLst/>
          </a:prstGeom>
          <a:ln w="0">
            <a:noFill/>
          </a:ln>
        </p:spPr>
      </p:pic>
      <p:pic>
        <p:nvPicPr>
          <p:cNvPr id="139" name="2.mp3" descr=""/>
          <p:cNvPicPr/>
          <p:nvPr/>
        </p:nvPicPr>
        <p:blipFill>
          <a:blip r:embed="rId4"/>
          <a:stretch/>
        </p:blipFill>
        <p:spPr>
          <a:xfrm>
            <a:off x="7772400" y="5732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357120" y="333360"/>
            <a:ext cx="8229600" cy="6191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06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comic"/>
              </a:rPr>
              <a:t>Правила работы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"/>
              </a:rPr>
              <a:t>Работай дружно по пл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"/>
              </a:rPr>
              <a:t>Умей выслушать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"/>
              </a:rPr>
              <a:t>Уважай мнение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"/>
              </a:rPr>
              <a:t>Не согласен с мнением других – доказывай свою точку з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nap1"/>
          <p:cNvPicPr/>
          <p:nvPr/>
        </p:nvPicPr>
        <p:blipFill>
          <a:blip r:embed="rId1"/>
          <a:stretch/>
        </p:blipFill>
        <p:spPr>
          <a:xfrm>
            <a:off x="5148360" y="1812960"/>
            <a:ext cx="3240000" cy="284004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3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>
            <a:lum contrast="42000"/>
          </a:blip>
          <a:srcRect l="16128" t="44749" r="1111" b="3621"/>
          <a:stretch/>
        </p:blipFill>
        <p:spPr>
          <a:xfrm>
            <a:off x="4859280" y="2349360"/>
            <a:ext cx="3598920" cy="308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0" name="Picture 3" descr="flowers11"/>
          <p:cNvPicPr/>
          <p:nvPr/>
        </p:nvPicPr>
        <p:blipFill>
          <a:blip r:embed="rId2"/>
          <a:stretch/>
        </p:blipFill>
        <p:spPr>
          <a:xfrm>
            <a:off x="3851280" y="4508640"/>
            <a:ext cx="11620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butterfly12"/>
          <p:cNvPicPr/>
          <p:nvPr/>
        </p:nvPicPr>
        <p:blipFill>
          <a:blip r:embed="rId3"/>
          <a:stretch/>
        </p:blipFill>
        <p:spPr>
          <a:xfrm flipH="1">
            <a:off x="5219280" y="2349360"/>
            <a:ext cx="1451160" cy="1465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lowers24"/>
          <p:cNvPicPr/>
          <p:nvPr/>
        </p:nvPicPr>
        <p:blipFill>
          <a:blip r:embed="rId4"/>
          <a:stretch/>
        </p:blipFill>
        <p:spPr>
          <a:xfrm>
            <a:off x="6804000" y="522936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2aae438b93ee8f8a918721842b487e59"/>
          <p:cNvPicPr/>
          <p:nvPr/>
        </p:nvPicPr>
        <p:blipFill>
          <a:blip r:embed="rId5"/>
          <a:stretch/>
        </p:blipFill>
        <p:spPr>
          <a:xfrm>
            <a:off x="6516720" y="4581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aae438b93ee8f8a918721842b487e59"/>
          <p:cNvPicPr/>
          <p:nvPr/>
        </p:nvPicPr>
        <p:blipFill>
          <a:blip r:embed="rId6"/>
          <a:stretch/>
        </p:blipFill>
        <p:spPr>
          <a:xfrm>
            <a:off x="4140360" y="40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utterfly43"/>
          <p:cNvPicPr/>
          <p:nvPr/>
        </p:nvPicPr>
        <p:blipFill>
          <a:blip r:embed="rId7"/>
          <a:stretch/>
        </p:blipFill>
        <p:spPr>
          <a:xfrm rot="20265000">
            <a:off x="5724360" y="1052280"/>
            <a:ext cx="107028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2aae438b93ee8f8a918721842b487e59"/>
          <p:cNvPicPr/>
          <p:nvPr/>
        </p:nvPicPr>
        <p:blipFill>
          <a:blip r:embed="rId8"/>
          <a:stretch/>
        </p:blipFill>
        <p:spPr>
          <a:xfrm>
            <a:off x="6227640" y="692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butterfly12"/>
          <p:cNvPicPr/>
          <p:nvPr/>
        </p:nvPicPr>
        <p:blipFill>
          <a:blip r:embed="rId9"/>
          <a:stretch/>
        </p:blipFill>
        <p:spPr>
          <a:xfrm rot="17196000">
            <a:off x="7387200" y="252720"/>
            <a:ext cx="1452600" cy="1466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468360" y="1341360"/>
            <a:ext cx="374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 по лесу 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 лычки др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 лапотки пле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жу – двое, себе – тр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детишкам – по лаптиш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2050920" y="888840"/>
            <a:ext cx="5040360" cy="88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45929" dir="19571123" blurRad="0" rotWithShape="0">
                    <a:srgbClr val="868686"/>
                  </a:outerShdw>
                </a:effectLst>
                <a:latin typeface="Arial"/>
              </a:rPr>
              <a:t>Чему учат басни: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45929" dir="19571123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Домашнее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думайте и запишите свою басню по опорным словам: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кот, мышь, спать, расхрабр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0_121f9_ae2c5733_XL"/>
          <p:cNvPicPr/>
          <p:nvPr/>
        </p:nvPicPr>
        <p:blipFill>
          <a:blip r:embed="rId1"/>
          <a:stretch/>
        </p:blipFill>
        <p:spPr>
          <a:xfrm>
            <a:off x="1214280" y="3214800"/>
            <a:ext cx="6810480" cy="2975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876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411280" y="1989000"/>
            <a:ext cx="4221360" cy="42357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714240" y="1357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ы 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4360" y="836640"/>
            <a:ext cx="806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ня – это  короткий ___________,  в котором действуют ___________________________, а подразумеваются __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аснях высмеиваются __________________ людей: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ня содержит нравоучени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4284720" y="981000"/>
            <a:ext cx="1150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ассказ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627280" y="1341360"/>
            <a:ext cx="2736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животные, расте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3995640" y="1700280"/>
            <a:ext cx="7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юди</a:t>
            </a:r>
            <a:endParaRPr b="0" lang="en-US" sz="1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332000" y="2133720"/>
            <a:ext cx="2376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ступки, поведени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4788000" y="2781360"/>
            <a:ext cx="20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достатк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2050920" y="3068640"/>
            <a:ext cx="1152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лоба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9"/>
          <p:cNvSpPr txBox="1"/>
          <p:nvPr/>
        </p:nvSpPr>
        <p:spPr>
          <a:xfrm>
            <a:off x="2124000" y="3645000"/>
            <a:ext cx="532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висть, жадность, ле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5796000" y="4221000"/>
            <a:ext cx="165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рал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2428920" y="1916280"/>
            <a:ext cx="20001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А.Крыл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714240" y="1785960"/>
            <a:ext cx="1008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зоп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4500720" y="5786280"/>
            <a:ext cx="2071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.Н.Толст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9" descr="24-014"/>
          <p:cNvPicPr/>
          <p:nvPr/>
        </p:nvPicPr>
        <p:blipFill>
          <a:blip r:embed="rId1"/>
          <a:stretch/>
        </p:blipFill>
        <p:spPr>
          <a:xfrm>
            <a:off x="2428920" y="2286000"/>
            <a:ext cx="2000160" cy="3498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1776240" cy="3714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2000160" cy="3429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5" name="Rectangle 16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upload.wikimedia.org/wikipedia/commons/thumb/e/e1/La_Fontaine_par_Rigaud.jpg/250px-La_Fontaine_par_Rigau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1840" y="2206800"/>
            <a:ext cx="1798920" cy="3444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4"/>
          <p:cNvSpPr/>
          <p:nvPr/>
        </p:nvSpPr>
        <p:spPr>
          <a:xfrm>
            <a:off x="6643800" y="571500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Д. Лафо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снопис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14920" y="2714760"/>
            <a:ext cx="3843360" cy="3533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1" name="Picture 5" descr="Рисунок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2960" y="2714760"/>
            <a:ext cx="3657600" cy="33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1116000" y="189000"/>
            <a:ext cx="66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Мораль басни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 это нравоучение, выраженное в кратко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 л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л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глуп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безнрав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невеж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-хвастов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45929" dir="19571123" blurRad="0" rotWithShape="0">
                    <a:srgbClr val="868686"/>
                  </a:outerShdw>
                </a:effectLst>
                <a:latin typeface="Arial"/>
              </a:rPr>
              <a:t>Басни высмеивают: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45929" dir="19571123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6" descr="jiv182"/>
          <p:cNvPicPr/>
          <p:nvPr/>
        </p:nvPicPr>
        <p:blipFill>
          <a:blip r:embed="rId1"/>
          <a:stretch/>
        </p:blipFill>
        <p:spPr>
          <a:xfrm>
            <a:off x="684360" y="4221000"/>
            <a:ext cx="1671480" cy="217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iv187"/>
          <p:cNvPicPr/>
          <p:nvPr/>
        </p:nvPicPr>
        <p:blipFill>
          <a:blip r:embed="rId2"/>
          <a:stretch/>
        </p:blipFill>
        <p:spPr>
          <a:xfrm>
            <a:off x="6443640" y="4724280"/>
            <a:ext cx="231156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8636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"/>
              </a:rPr>
              <a:t>Назовите признаки бас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Героями  часто бывают животные или растения, вещи, птицы,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Большое по объему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Написана в прозе</a:t>
            </a:r>
            <a:r>
              <a:rPr b="0" lang="en-US" sz="2400" spc="-1" strike="noStrike">
                <a:solidFill>
                  <a:srgbClr val="0000cc"/>
                </a:solidFill>
                <a:latin typeface="comic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или стихах</a:t>
            </a:r>
            <a:r>
              <a:rPr b="0" lang="en-US" sz="2400" spc="-1" strike="noStrike">
                <a:solidFill>
                  <a:srgbClr val="0000cc"/>
                </a:solidFill>
                <a:latin typeface="com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В начале или в конце сформулирован вывод-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Литературные приемы: олицетворение и эзопов язык (иносказ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Мало опи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Высмеиваются человеческие по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Много ди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mic"/>
              </a:rPr>
              <a:t>Интересный короткий занимательный сю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ird43"/>
          <p:cNvPicPr/>
          <p:nvPr/>
        </p:nvPicPr>
        <p:blipFill>
          <a:blip r:embed="rId1"/>
          <a:stretch/>
        </p:blipFill>
        <p:spPr>
          <a:xfrm>
            <a:off x="250920" y="333360"/>
            <a:ext cx="118116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9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9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9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8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" dur="3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9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3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19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3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3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57120" y="35712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ма урок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А. Крылов «Квар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725040" y="3068640"/>
            <a:ext cx="700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Учиться поним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ысл бас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ё занимательный сюж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57120" y="357120"/>
            <a:ext cx="8229600" cy="616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571680" y="64296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является героями бас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ходить отличительные особенности басни, работать над содерж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басню по ро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ить свои зн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0720" y="404640"/>
            <a:ext cx="8136000" cy="612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35:04Z</dcterms:created>
  <dc:creator>1</dc:creator>
  <dc:description/>
  <dc:language>en-US</dc:language>
  <cp:lastModifiedBy>sdf</cp:lastModifiedBy>
  <dcterms:modified xsi:type="dcterms:W3CDTF">2014-01-29T16:46:13Z</dcterms:modified>
  <cp:revision>101</cp:revision>
  <dc:subject/>
  <dc:title>Слайд 1</dc:title>
</cp:coreProperties>
</file>